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1EAE-38A6-4FBC-A577-D9008665F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ADE1-95AC-4E27-8273-FFD09FF0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335F-3530-4C5B-8BF4-A5414E8BE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D6F0-ECA9-4B6E-B42B-AF6C8A10D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D6C2-BD6E-46BC-971B-61F31A61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AA36-6981-47F6-B2D4-95CF8802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36D9-870E-4E96-9A2C-66203689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193F-CDBB-4135-B70E-71E4A46F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3857-B728-4784-9626-A678BB07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409B-DC81-432B-A5FE-F478CE61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55E8-899F-4BAB-B645-597834C5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A2DE-27DE-4D2B-8F08-66AE3BD6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F322-5E98-4BA3-A0B5-DBBDAF0E87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84720" y="1916280"/>
            <a:ext cx="0" cy="38890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55308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6778-5FCF-45DB-B95E-B46CB2728FA5}" type="datetime2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Wednesday 29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04640"/>
            <a:ext cx="11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on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rther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6200000">
            <a:off x="1008000" y="1663560"/>
            <a:ext cx="1871640" cy="23763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5076000" y="1411560"/>
            <a:ext cx="1871640" cy="273708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76360" y="2565360"/>
            <a:ext cx="3589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35280" y="3860640"/>
            <a:ext cx="35856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32000" y="2637000"/>
            <a:ext cx="3589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3789360"/>
            <a:ext cx="35892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80360" y="2492280"/>
            <a:ext cx="35856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08720" y="2276640"/>
            <a:ext cx="35856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258920" y="3213000"/>
            <a:ext cx="647640" cy="583920"/>
            <a:chOff x="1258920" y="3213000"/>
            <a:chExt cx="647640" cy="583920"/>
          </a:xfrm>
        </p:grpSpPr>
        <p:sp>
          <p:nvSpPr>
            <p:cNvPr id="57" name=""/>
            <p:cNvSpPr/>
            <p:nvPr/>
          </p:nvSpPr>
          <p:spPr>
            <a:xfrm>
              <a:off x="1258920" y="3213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 </a:t>
              </a:r>
              <a:r>
                <a:rPr b="0" i="1" lang="el-GR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32000" y="34286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292720" y="3141720"/>
            <a:ext cx="647640" cy="583920"/>
            <a:chOff x="5292720" y="3141720"/>
            <a:chExt cx="647640" cy="583920"/>
          </a:xfrm>
        </p:grpSpPr>
        <p:sp>
          <p:nvSpPr>
            <p:cNvPr id="60" name=""/>
            <p:cNvSpPr/>
            <p:nvPr/>
          </p:nvSpPr>
          <p:spPr>
            <a:xfrm>
              <a:off x="5292720" y="3141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 </a:t>
              </a:r>
              <a:r>
                <a:rPr b="0" i="1" lang="el-GR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65800" y="33573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179280" y="4437000"/>
            <a:ext cx="1944720" cy="1584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5516640"/>
            <a:ext cx="172728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s    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4724280"/>
            <a:ext cx="172728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        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755640" y="5373720"/>
            <a:ext cx="647640" cy="583920"/>
            <a:chOff x="755640" y="5373720"/>
            <a:chExt cx="647640" cy="583920"/>
          </a:xfrm>
        </p:grpSpPr>
        <p:sp>
          <p:nvSpPr>
            <p:cNvPr id="66" name=""/>
            <p:cNvSpPr/>
            <p:nvPr/>
          </p:nvSpPr>
          <p:spPr>
            <a:xfrm>
              <a:off x="755640" y="5373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 </a:t>
              </a:r>
              <a:r>
                <a:rPr b="0" i="1" lang="el-GR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28720" y="55893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684360" y="4581360"/>
            <a:ext cx="647640" cy="583920"/>
            <a:chOff x="684360" y="4581360"/>
            <a:chExt cx="647640" cy="583920"/>
          </a:xfrm>
        </p:grpSpPr>
        <p:sp>
          <p:nvSpPr>
            <p:cNvPr id="69" name=""/>
            <p:cNvSpPr/>
            <p:nvPr/>
          </p:nvSpPr>
          <p:spPr>
            <a:xfrm>
              <a:off x="684360" y="458136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 </a:t>
              </a:r>
              <a:r>
                <a:rPr b="0" i="1" lang="el-GR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7440" y="4797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476360" y="4581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530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76360" y="479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76360" y="558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√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00360" y="4221000"/>
            <a:ext cx="1224000" cy="720720"/>
          </a:xfrm>
          <a:prstGeom prst="wedgeEllipseCallout">
            <a:avLst>
              <a:gd name="adj1" fmla="val -71532"/>
              <a:gd name="adj2" fmla="val 83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916360" y="4292640"/>
            <a:ext cx="647640" cy="583920"/>
            <a:chOff x="2916360" y="4292640"/>
            <a:chExt cx="647640" cy="583920"/>
          </a:xfrm>
        </p:grpSpPr>
        <p:sp>
          <p:nvSpPr>
            <p:cNvPr id="77" name=""/>
            <p:cNvSpPr/>
            <p:nvPr/>
          </p:nvSpPr>
          <p:spPr>
            <a:xfrm>
              <a:off x="2916360" y="429264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 </a:t>
              </a:r>
              <a:r>
                <a:rPr b="0" i="1" lang="el-GR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89440" y="4508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3276720" y="4292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877080" y="1989000"/>
            <a:ext cx="647640" cy="583920"/>
            <a:chOff x="6877080" y="1989000"/>
            <a:chExt cx="647640" cy="583920"/>
          </a:xfrm>
        </p:grpSpPr>
        <p:sp>
          <p:nvSpPr>
            <p:cNvPr id="81" name=""/>
            <p:cNvSpPr/>
            <p:nvPr/>
          </p:nvSpPr>
          <p:spPr>
            <a:xfrm>
              <a:off x="6877080" y="1989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 </a:t>
              </a:r>
              <a:r>
                <a:rPr b="0" i="1" lang="el-GR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950160" y="22046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4643280" y="4365720"/>
            <a:ext cx="1944720" cy="1584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16360" y="4437000"/>
            <a:ext cx="172728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        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148360" y="4365720"/>
            <a:ext cx="647640" cy="583920"/>
            <a:chOff x="5148360" y="4365720"/>
            <a:chExt cx="647640" cy="583920"/>
          </a:xfrm>
        </p:grpSpPr>
        <p:sp>
          <p:nvSpPr>
            <p:cNvPr id="86" name=""/>
            <p:cNvSpPr/>
            <p:nvPr/>
          </p:nvSpPr>
          <p:spPr>
            <a:xfrm>
              <a:off x="5148360" y="4365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 </a:t>
              </a:r>
              <a:r>
                <a:rPr b="0" i="1" lang="el-GR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221440" y="45813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5867280" y="4365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96000" y="4581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16360" y="5229360"/>
            <a:ext cx="172728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s    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076720" y="5084640"/>
            <a:ext cx="647640" cy="583920"/>
            <a:chOff x="5076720" y="5084640"/>
            <a:chExt cx="647640" cy="583920"/>
          </a:xfrm>
        </p:grpSpPr>
        <p:sp>
          <p:nvSpPr>
            <p:cNvPr id="92" name=""/>
            <p:cNvSpPr/>
            <p:nvPr/>
          </p:nvSpPr>
          <p:spPr>
            <a:xfrm>
              <a:off x="5076720" y="508464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 </a:t>
              </a:r>
              <a:r>
                <a:rPr b="0" i="1" lang="el-GR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49800" y="5300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5867280" y="5373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508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341360"/>
            <a:ext cx="17636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381400" cy="358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Times New Roman"/>
              </a:rPr>
              <a:t>The derivative of sin </a:t>
            </a:r>
            <a:r>
              <a:rPr b="1" i="1" lang="en-US" sz="1800" spc="-1" strike="noStrike">
                <a:solidFill>
                  <a:srgbClr val="cc3399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48840" y="6095880"/>
            <a:ext cx="62856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ShockwaveFlash1"/>
          <p:cNvGraphicFramePr/>
          <p:nvPr/>
        </p:nvGraphicFramePr>
        <p:xfrm>
          <a:off x="324000" y="907920"/>
          <a:ext cx="8635680" cy="507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907920"/>
                    <a:ext cx="86356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324000" y="907920"/>
            <a:ext cx="8635680" cy="5079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655308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8ED3-48DF-4508-8766-5C1AE2F09C2D}" type="datetime2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Wednesday 29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95640" y="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rther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628560" y="673200"/>
            <a:ext cx="72010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Trig Function  Differen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403280" y="2060640"/>
            <a:ext cx="64944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99"/>
                </a:solidFill>
                <a:latin typeface="Comic Sans MS"/>
              </a:rPr>
              <a:t>The Derivatives of sin </a:t>
            </a:r>
            <a:r>
              <a:rPr b="0" i="1" lang="en-GB" sz="3200" spc="-1" strike="noStrike">
                <a:solidFill>
                  <a:srgbClr val="cc3399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cc3399"/>
                </a:solidFill>
                <a:latin typeface="Comic Sans MS"/>
              </a:rPr>
              <a:t> &amp; cos </a:t>
            </a:r>
            <a:r>
              <a:rPr b="0" i="1" lang="en-GB" sz="3200" spc="-1" strike="noStrike">
                <a:solidFill>
                  <a:srgbClr val="cc3399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2"/>
          <p:cNvGraphicFramePr/>
          <p:nvPr/>
        </p:nvGraphicFramePr>
        <p:xfrm>
          <a:off x="1835280" y="3357720"/>
          <a:ext cx="5827680" cy="81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3357720"/>
                    <a:ext cx="5827680" cy="81432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0" y="655308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91D9-B297-4798-8AFE-0F724B304297}" type="datetime2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Wednesday 29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95640" y="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rther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2381400" cy="358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Times New Roman"/>
              </a:rPr>
              <a:t>The derivative of sin </a:t>
            </a:r>
            <a:r>
              <a:rPr b="1" i="1" lang="en-US" sz="1800" spc="-1" strike="noStrike">
                <a:solidFill>
                  <a:srgbClr val="cc3399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332000" y="5013360"/>
            <a:ext cx="649440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r these results to work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must be measured in rad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20000" y="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55308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D7CA-2716-44CB-8F0C-8E1DA6D7097E}" type="datetime2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Wednesday 29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0464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95640" y="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rther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413000"/>
            <a:ext cx="15476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59280" y="1341360"/>
            <a:ext cx="15476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1989000"/>
            <a:ext cx="2232000" cy="862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f ′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f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2si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3068640"/>
            <a:ext cx="2232000" cy="862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 f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2si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f ′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2cos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71640" y="1916280"/>
            <a:ext cx="2808360" cy="862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(3 si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 –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5 cos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2133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71640" y="2781360"/>
            <a:ext cx="280836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3 co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 –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5 (- si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71640" y="3284640"/>
            <a:ext cx="280836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3 co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5 si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72360" y="1413000"/>
            <a:ext cx="15476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1916280"/>
            <a:ext cx="2916360" cy="138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= 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+ 2sin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cos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nd f ′ 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(3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π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96000" y="3284640"/>
            <a:ext cx="287964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 ′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2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co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si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04000" y="2708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03640" y="3933720"/>
            <a:ext cx="4140360" cy="816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 ′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2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cos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si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156360" y="3860640"/>
            <a:ext cx="647640" cy="583920"/>
            <a:chOff x="6156360" y="3860640"/>
            <a:chExt cx="647640" cy="583920"/>
          </a:xfrm>
        </p:grpSpPr>
        <p:sp>
          <p:nvSpPr>
            <p:cNvPr id="136" name=""/>
            <p:cNvSpPr/>
            <p:nvPr/>
          </p:nvSpPr>
          <p:spPr>
            <a:xfrm>
              <a:off x="6156360" y="386064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3</a:t>
              </a:r>
              <a:r>
                <a:rPr b="0" i="1" lang="el-GR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29440" y="4076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7236000" y="3933720"/>
            <a:ext cx="647640" cy="583920"/>
            <a:chOff x="7236000" y="3933720"/>
            <a:chExt cx="647640" cy="583920"/>
          </a:xfrm>
        </p:grpSpPr>
        <p:sp>
          <p:nvSpPr>
            <p:cNvPr id="139" name=""/>
            <p:cNvSpPr/>
            <p:nvPr/>
          </p:nvSpPr>
          <p:spPr>
            <a:xfrm>
              <a:off x="7236000" y="3933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3</a:t>
              </a:r>
              <a:r>
                <a:rPr b="0" i="1" lang="el-GR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09080" y="41493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364000" y="3933720"/>
            <a:ext cx="647640" cy="583920"/>
            <a:chOff x="5364000" y="3933720"/>
            <a:chExt cx="647640" cy="583920"/>
          </a:xfrm>
        </p:grpSpPr>
        <p:sp>
          <p:nvSpPr>
            <p:cNvPr id="142" name=""/>
            <p:cNvSpPr/>
            <p:nvPr/>
          </p:nvSpPr>
          <p:spPr>
            <a:xfrm>
              <a:off x="5364000" y="3933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3</a:t>
              </a:r>
              <a:r>
                <a:rPr b="0" i="1" lang="el-GR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37080" y="41493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8496360" y="3860640"/>
            <a:ext cx="647640" cy="583920"/>
            <a:chOff x="8496360" y="3860640"/>
            <a:chExt cx="647640" cy="583920"/>
          </a:xfrm>
        </p:grpSpPr>
        <p:sp>
          <p:nvSpPr>
            <p:cNvPr id="145" name=""/>
            <p:cNvSpPr/>
            <p:nvPr/>
          </p:nvSpPr>
          <p:spPr>
            <a:xfrm>
              <a:off x="8496360" y="386064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3</a:t>
              </a:r>
              <a:r>
                <a:rPr b="0" i="1" lang="el-GR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569440" y="4076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5003640" y="4869000"/>
            <a:ext cx="4140360" cy="862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 ′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-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292720" y="4869000"/>
            <a:ext cx="647640" cy="583920"/>
            <a:chOff x="5292720" y="4869000"/>
            <a:chExt cx="647640" cy="583920"/>
          </a:xfrm>
        </p:grpSpPr>
        <p:sp>
          <p:nvSpPr>
            <p:cNvPr id="149" name=""/>
            <p:cNvSpPr/>
            <p:nvPr/>
          </p:nvSpPr>
          <p:spPr>
            <a:xfrm>
              <a:off x="5292720" y="4869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3</a:t>
              </a:r>
              <a:r>
                <a:rPr b="0" i="1" lang="el-GR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65800" y="50846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084720" y="4869000"/>
            <a:ext cx="647640" cy="583920"/>
            <a:chOff x="6084720" y="4869000"/>
            <a:chExt cx="647640" cy="583920"/>
          </a:xfrm>
        </p:grpSpPr>
        <p:sp>
          <p:nvSpPr>
            <p:cNvPr id="152" name=""/>
            <p:cNvSpPr/>
            <p:nvPr/>
          </p:nvSpPr>
          <p:spPr>
            <a:xfrm>
              <a:off x="6084720" y="4869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3</a:t>
              </a:r>
              <a:r>
                <a:rPr b="0" i="1" lang="el-GR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57800" y="50846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877080" y="5157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√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40720" y="5157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√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03640" y="5734080"/>
            <a:ext cx="4140360" cy="816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(3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5 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084720" y="5734080"/>
            <a:ext cx="647640" cy="583920"/>
            <a:chOff x="6084720" y="5734080"/>
            <a:chExt cx="647640" cy="583920"/>
          </a:xfrm>
        </p:grpSpPr>
        <p:sp>
          <p:nvSpPr>
            <p:cNvPr id="158" name=""/>
            <p:cNvSpPr/>
            <p:nvPr/>
          </p:nvSpPr>
          <p:spPr>
            <a:xfrm>
              <a:off x="6084720" y="57340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3</a:t>
              </a:r>
              <a:r>
                <a:rPr b="0" i="1" lang="el-GR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59497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732720" y="6021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√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388360" y="57340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√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451640" y="602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" name="Object 2"/>
          <p:cNvGraphicFramePr/>
          <p:nvPr/>
        </p:nvGraphicFramePr>
        <p:xfrm>
          <a:off x="1619280" y="1557360"/>
          <a:ext cx="5067360" cy="64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1557360"/>
                    <a:ext cx="5067360" cy="6476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Object 4"/>
          <p:cNvGraphicFramePr/>
          <p:nvPr/>
        </p:nvGraphicFramePr>
        <p:xfrm>
          <a:off x="1187280" y="4292640"/>
          <a:ext cx="4305600" cy="609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87280" y="4292640"/>
                    <a:ext cx="4305600" cy="6094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Object 5"/>
          <p:cNvGraphicFramePr/>
          <p:nvPr/>
        </p:nvGraphicFramePr>
        <p:xfrm>
          <a:off x="1187280" y="5157720"/>
          <a:ext cx="2222640" cy="711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87280" y="5157720"/>
                    <a:ext cx="2222640" cy="71136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1184400" y="6000840"/>
          <a:ext cx="1714320" cy="647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84400" y="6000840"/>
                    <a:ext cx="1714320" cy="64764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2" name="Text Box 4"/>
          <p:cNvSpPr/>
          <p:nvPr/>
        </p:nvSpPr>
        <p:spPr>
          <a:xfrm>
            <a:off x="628560" y="673200"/>
            <a:ext cx="72010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Trig Function  Differen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loud 11"/>
          <p:cNvSpPr/>
          <p:nvPr/>
        </p:nvSpPr>
        <p:spPr>
          <a:xfrm>
            <a:off x="5929200" y="2610000"/>
            <a:ext cx="2986200" cy="2015640"/>
          </a:xfrm>
          <a:prstGeom prst="pie">
            <a:avLst/>
          </a:prstGeom>
          <a:solidFill>
            <a:srgbClr val="ffff99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Comic Sans MS"/>
              </a:rPr>
              <a:t>Simplify expression - where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Cloud 12"/>
          <p:cNvSpPr/>
          <p:nvPr/>
        </p:nvSpPr>
        <p:spPr>
          <a:xfrm>
            <a:off x="3938760" y="5284800"/>
            <a:ext cx="2985840" cy="1547640"/>
          </a:xfrm>
          <a:prstGeom prst="pie">
            <a:avLst/>
          </a:prstGeom>
          <a:solidFill>
            <a:srgbClr val="ffff99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Comic Sans MS"/>
              </a:rPr>
              <a:t>Restore the original form of 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95640" y="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rther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413000"/>
            <a:ext cx="15476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87280" y="2492280"/>
            <a:ext cx="2880000" cy="862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4    -    x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cosx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 x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58920" y="2852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08000" y="2852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87280" y="3573360"/>
            <a:ext cx="28800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-   cos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4"/>
          <p:cNvSpPr/>
          <p:nvPr/>
        </p:nvSpPr>
        <p:spPr>
          <a:xfrm>
            <a:off x="628560" y="673200"/>
            <a:ext cx="72010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Trig Function  Differen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95640" y="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rther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2381400" cy="358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Times New Roman"/>
              </a:rPr>
              <a:t>The derivative of sin </a:t>
            </a:r>
            <a:r>
              <a:rPr b="1" i="1" lang="en-US" sz="1800" spc="-1" strike="noStrike">
                <a:solidFill>
                  <a:srgbClr val="cc3399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1484280"/>
            <a:ext cx="30592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iate the follow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9280" y="2133720"/>
            <a:ext cx="12258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  sin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2565360"/>
            <a:ext cx="1513080" cy="862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= sin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 ′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= cos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79280" y="3500280"/>
            <a:ext cx="12258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b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   cos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9280" y="4005360"/>
            <a:ext cx="1513080" cy="862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= cos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 ′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= -sin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4941720"/>
            <a:ext cx="15130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 1 - s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9280" y="5445000"/>
            <a:ext cx="1728720" cy="862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- sin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 ′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= -cos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050920" y="2133720"/>
            <a:ext cx="1729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)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– 3 s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2565360"/>
            <a:ext cx="2016360" cy="70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 – 3 sin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 ′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= -3 cos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50920" y="3500280"/>
            <a:ext cx="1729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)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s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50920" y="3933720"/>
            <a:ext cx="2016360" cy="862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= 4 si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 ′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= 4 cos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50920" y="4941720"/>
            <a:ext cx="1729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f)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 + 2 co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50920" y="5445000"/>
            <a:ext cx="2016360" cy="862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 + 2 cos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 ′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= -2 si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56000" y="2133720"/>
            <a:ext cx="172872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g)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x +  co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56000" y="2637000"/>
            <a:ext cx="2016360" cy="84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 +  cos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 ′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–  sin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356000" y="3645000"/>
            <a:ext cx="172872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h)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5 co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56000" y="4076640"/>
            <a:ext cx="2016360" cy="84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= 5 co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 ′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= – 5 si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356000" y="5084640"/>
            <a:ext cx="172872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356000" y="5589720"/>
            <a:ext cx="2016360" cy="84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 ′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= 1 + co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77080" y="2133720"/>
            <a:ext cx="172872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j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4 co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77080" y="2637000"/>
            <a:ext cx="2016000" cy="84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= 4 co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 ′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= –  4si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77080" y="3716280"/>
            <a:ext cx="172872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k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8 co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77080" y="4149720"/>
            <a:ext cx="2016000" cy="84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= 8 co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 ′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= –  8si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77080" y="5157720"/>
            <a:ext cx="226692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l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6 co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16720" y="5589720"/>
            <a:ext cx="2627280" cy="84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= 6 co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 ′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= –6si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5cos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0" y="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1773360"/>
            <a:ext cx="8424720" cy="3010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21  Ex 2A Q1 to 3  easy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21  Ex 2B Q1 to 4   har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for Tomor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655308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3D45-8105-4A75-B1D9-ABFF22BBACF3}" type="datetime2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Wednesday 29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04640"/>
            <a:ext cx="9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on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95640" y="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rther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23:13Z</dcterms:created>
  <dc:creator>Caroline</dc:creator>
  <dc:description/>
  <dc:language>en-US</dc:language>
  <cp:lastModifiedBy>Caroline</cp:lastModifiedBy>
  <dcterms:modified xsi:type="dcterms:W3CDTF">2009-03-18T09:51:22Z</dcterms:modified>
  <cp:revision>54</cp:revision>
  <dc:subject/>
  <dc:title>Slide 1</dc:title>
</cp:coreProperties>
</file>